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93CB-F999-4FAD-8582-60AFB95C6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842D-0C11-44FF-BDB7-8EB5AFE73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FA4B-2D5F-48BB-A891-3C0D88E54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0F8D-E808-4D5A-8E37-A7687EFF3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C84D-5D94-477E-B04C-4D3AF6999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73A0-D5B2-4AD6-A509-A6F01BBC9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E0D6-AA21-4E3C-A876-94B857BE6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3EC9-B83B-4A05-8F7E-25B740642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22AB-B523-4514-8154-22BFE6D5A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0172-5FE2-456F-B7C0-FE54D2E8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0945-4250-4569-8773-E7132265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FE2F-9C25-4460-8C45-15936DC3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202B5-0F1D-49C7-887D-C4F7D3F42F20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170720" y="617760"/>
            <a:ext cx="7019280" cy="6080040"/>
            <a:chOff x="1170720" y="617760"/>
            <a:chExt cx="7019280" cy="6080040"/>
          </a:xfrm>
        </p:grpSpPr>
        <p:sp>
          <p:nvSpPr>
            <p:cNvPr id="42" name="_s2059"/>
            <p:cNvSpPr/>
            <p:nvPr/>
          </p:nvSpPr>
          <p:spPr>
            <a:xfrm flipH="1">
              <a:off x="2540880" y="617760"/>
              <a:ext cx="4279680" cy="4281480"/>
            </a:xfrm>
            <a:custGeom>
              <a:avLst/>
              <a:gdLst>
                <a:gd name="textAreaLeft" fmla="*/ 360 w 4279680"/>
                <a:gd name="textAreaRight" fmla="*/ 4280400 w 4279680"/>
                <a:gd name="textAreaTop" fmla="*/ 0 h 4281480"/>
                <a:gd name="textAreaBottom" fmla="*/ 4281840 h 428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81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_s2057"/>
            <p:cNvSpPr/>
            <p:nvPr/>
          </p:nvSpPr>
          <p:spPr>
            <a:xfrm flipH="1" rot="14400000">
              <a:off x="1953360" y="1633320"/>
              <a:ext cx="4281120" cy="4280400"/>
            </a:xfrm>
            <a:custGeom>
              <a:avLst/>
              <a:gdLst>
                <a:gd name="textAreaLeft" fmla="*/ 360 w 4281120"/>
                <a:gd name="textAreaRight" fmla="*/ 4281840 w 4281120"/>
                <a:gd name="textAreaTop" fmla="*/ 0 h 4280400"/>
                <a:gd name="textAreaBottom" fmla="*/ 4280760 h 428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gradFill rotWithShape="0">
              <a:gsLst>
                <a:gs pos="0">
                  <a:srgbClr val="333399"/>
                </a:gs>
                <a:gs pos="100000">
                  <a:srgbClr val="ffffff"/>
                </a:gs>
              </a:gsLst>
              <a:lin ang="9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2056"/>
            <p:cNvSpPr/>
            <p:nvPr/>
          </p:nvSpPr>
          <p:spPr>
            <a:xfrm flipH="1" rot="7200000">
              <a:off x="3125160" y="1633680"/>
              <a:ext cx="4281120" cy="4280400"/>
            </a:xfrm>
            <a:custGeom>
              <a:avLst/>
              <a:gdLst>
                <a:gd name="textAreaLeft" fmla="*/ 360 w 4281120"/>
                <a:gd name="textAreaRight" fmla="*/ 4281840 w 4281120"/>
                <a:gd name="textAreaTop" fmla="*/ 0 h 4280400"/>
                <a:gd name="textAreaBottom" fmla="*/ 4280760 h 428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153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_s2054"/>
            <p:cNvSpPr/>
            <p:nvPr/>
          </p:nvSpPr>
          <p:spPr>
            <a:xfrm>
              <a:off x="1792080" y="1403640"/>
              <a:ext cx="1717200" cy="171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100" spc="-1" strike="noStrike">
                  <a:solidFill>
                    <a:srgbClr val="000000"/>
                  </a:solidFill>
                  <a:latin typeface="Arial"/>
                </a:rPr>
                <a:t>Fraction</a:t>
              </a:r>
              <a:endParaRPr b="0" lang="en-US" sz="5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2055"/>
            <p:cNvSpPr/>
            <p:nvPr/>
          </p:nvSpPr>
          <p:spPr>
            <a:xfrm>
              <a:off x="3822120" y="4919760"/>
              <a:ext cx="1717200" cy="171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100" spc="-1" strike="noStrike">
                  <a:solidFill>
                    <a:srgbClr val="000000"/>
                  </a:solidFill>
                  <a:latin typeface="Arial"/>
                </a:rPr>
                <a:t>Decimal</a:t>
              </a:r>
              <a:endParaRPr b="0" lang="en-US" sz="5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2058"/>
            <p:cNvSpPr/>
            <p:nvPr/>
          </p:nvSpPr>
          <p:spPr>
            <a:xfrm>
              <a:off x="5852160" y="1403640"/>
              <a:ext cx="1717200" cy="171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100" spc="-1" strike="noStrike">
                  <a:solidFill>
                    <a:srgbClr val="000000"/>
                  </a:solidFill>
                  <a:latin typeface="Arial"/>
                </a:rPr>
                <a:t>Percentage</a:t>
              </a:r>
              <a:endParaRPr b="0" lang="en-US" sz="5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186080" y="820800"/>
                <a:ext cx="3906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501480" y="3014640"/>
                <a:ext cx="5191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3780000" y="5661000"/>
            <a:ext cx="156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258920" y="1700280"/>
                <a:ext cx="2079720" cy="11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5665680" y="1557360"/>
                <a:ext cx="1192320" cy="13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|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755640" y="4514760"/>
                <a:ext cx="309564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1187280" y="1413000"/>
            <a:ext cx="2778120" cy="1655640"/>
          </a:xfrm>
          <a:prstGeom prst="cloudCallout">
            <a:avLst>
              <a:gd name="adj1" fmla="val -2629"/>
              <a:gd name="adj2" fmla="val 4252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y by a special form of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187280" y="1413000"/>
            <a:ext cx="2880000" cy="2016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89080" y="2867040"/>
            <a:ext cx="1776240" cy="706320"/>
          </a:xfrm>
          <a:custGeom>
            <a:avLst/>
            <a:gdLst/>
            <a:ahLst/>
            <a:rect l="l" t="t" r="r" b="b"/>
            <a:pathLst>
              <a:path w="1119" h="445">
                <a:moveTo>
                  <a:pt x="1119" y="0"/>
                </a:moveTo>
                <a:lnTo>
                  <a:pt x="0" y="445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588080" y="3233880"/>
            <a:ext cx="9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788000" y="1341360"/>
            <a:ext cx="2808360" cy="1943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32360" y="1268280"/>
            <a:ext cx="2592360" cy="1656000"/>
          </a:xfrm>
          <a:prstGeom prst="cloudCallout">
            <a:avLst>
              <a:gd name="adj1" fmla="val -26606"/>
              <a:gd name="adj2" fmla="val 401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ivide 2 by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Find </a:t>
            </a:r>
            <a:r>
              <a:rPr b="0" lang="en-AU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÷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04000" y="1930320"/>
            <a:ext cx="1152720" cy="1079640"/>
          </a:xfrm>
          <a:custGeom>
            <a:avLst/>
            <a:gdLst/>
            <a:ahLst/>
            <a:rect l="l" t="t" r="r" b="b"/>
            <a:pathLst>
              <a:path w="726" h="680">
                <a:moveTo>
                  <a:pt x="0" y="0"/>
                </a:moveTo>
                <a:cubicBezTo>
                  <a:pt x="143" y="11"/>
                  <a:pt x="287" y="23"/>
                  <a:pt x="408" y="136"/>
                </a:cubicBezTo>
                <a:cubicBezTo>
                  <a:pt x="529" y="249"/>
                  <a:pt x="627" y="464"/>
                  <a:pt x="726" y="68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08200" y="3573360"/>
            <a:ext cx="5545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87640" y="2924280"/>
            <a:ext cx="3024360" cy="1368360"/>
          </a:xfrm>
          <a:prstGeom prst="cloudCallout">
            <a:avLst>
              <a:gd name="adj1" fmla="val -9004"/>
              <a:gd name="adj2" fmla="val 418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as a decimal using plac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35280" y="3552840"/>
            <a:ext cx="532908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43280" y="3048120"/>
            <a:ext cx="3816360" cy="1368360"/>
          </a:xfrm>
          <a:prstGeom prst="cloudCallout">
            <a:avLst>
              <a:gd name="adj1" fmla="val -26083"/>
              <a:gd name="adj2" fmla="val 211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as a fraction with 10 as denom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16000" y="4076640"/>
            <a:ext cx="2592360" cy="172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16000" y="4365720"/>
            <a:ext cx="2519280" cy="1439640"/>
          </a:xfrm>
          <a:prstGeom prst="cloudCallout">
            <a:avLst>
              <a:gd name="adj1" fmla="val -34120"/>
              <a:gd name="adj2" fmla="val 288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y by special form of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95640" y="5084640"/>
            <a:ext cx="252360" cy="432000"/>
          </a:xfrm>
          <a:custGeom>
            <a:avLst/>
            <a:gdLst/>
            <a:ahLst/>
            <a:rect l="l" t="t" r="r" b="b"/>
            <a:pathLst>
              <a:path w="159" h="272">
                <a:moveTo>
                  <a:pt x="0" y="0"/>
                </a:moveTo>
                <a:cubicBezTo>
                  <a:pt x="56" y="45"/>
                  <a:pt x="113" y="91"/>
                  <a:pt x="136" y="136"/>
                </a:cubicBezTo>
                <a:cubicBezTo>
                  <a:pt x="159" y="181"/>
                  <a:pt x="136" y="249"/>
                  <a:pt x="136" y="272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003640" y="3860640"/>
            <a:ext cx="2881440" cy="187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92680" y="4124160"/>
            <a:ext cx="3456000" cy="1368720"/>
          </a:xfrm>
          <a:prstGeom prst="cloudCallout">
            <a:avLst>
              <a:gd name="adj1" fmla="val -10634"/>
              <a:gd name="adj2" fmla="val 4199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y by a special form of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4902120" y="4294080"/>
                <a:ext cx="328140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5148360" y="4941720"/>
            <a:ext cx="2651040" cy="1079640"/>
          </a:xfrm>
          <a:custGeom>
            <a:avLst/>
            <a:gdLst/>
            <a:ahLst/>
            <a:rect l="l" t="t" r="r" b="b"/>
            <a:pathLst>
              <a:path w="1670" h="680">
                <a:moveTo>
                  <a:pt x="1587" y="0"/>
                </a:moveTo>
                <a:cubicBezTo>
                  <a:pt x="1628" y="170"/>
                  <a:pt x="1670" y="340"/>
                  <a:pt x="1406" y="453"/>
                </a:cubicBezTo>
                <a:cubicBezTo>
                  <a:pt x="1142" y="566"/>
                  <a:pt x="571" y="623"/>
                  <a:pt x="0" y="68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920" y="-27000"/>
            <a:ext cx="31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ver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25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4186080" y="820800"/>
                <a:ext cx="3906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501480" y="3014640"/>
                <a:ext cx="5191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3780000" y="5661000"/>
            <a:ext cx="156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588080" y="3233880"/>
            <a:ext cx="9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920" y="-27000"/>
            <a:ext cx="31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ver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4356000" y="1915920"/>
            <a:ext cx="0" cy="360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79640" y="2421000"/>
            <a:ext cx="5184720" cy="2017800"/>
          </a:xfrm>
          <a:prstGeom prst="cloudCallout">
            <a:avLst>
              <a:gd name="adj1" fmla="val 3000"/>
              <a:gd name="adj2" fmla="val 565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as a fraction with 100 as denominator then divide numerator and denominator by common factor of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1115640" y="3860640"/>
            <a:ext cx="2376360" cy="1656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2843280" y="2708280"/>
                <a:ext cx="310500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÷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÷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684360" y="4508640"/>
                <a:ext cx="344808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÷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÷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-108000" y="3933720"/>
            <a:ext cx="4896000" cy="2374920"/>
          </a:xfrm>
          <a:prstGeom prst="cloudCallout">
            <a:avLst>
              <a:gd name="adj1" fmla="val 33009"/>
              <a:gd name="adj2" fmla="val -33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as a fraction with 100 as denominator then divide numerator and denominator by common factor of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788000" y="1413000"/>
            <a:ext cx="1357200" cy="1079280"/>
          </a:xfrm>
          <a:custGeom>
            <a:avLst/>
            <a:gdLst/>
            <a:ahLst/>
            <a:rect l="l" t="t" r="r" b="b"/>
            <a:pathLst>
              <a:path w="855" h="680">
                <a:moveTo>
                  <a:pt x="771" y="680"/>
                </a:moveTo>
                <a:cubicBezTo>
                  <a:pt x="813" y="532"/>
                  <a:pt x="855" y="385"/>
                  <a:pt x="726" y="272"/>
                </a:cubicBezTo>
                <a:cubicBezTo>
                  <a:pt x="597" y="159"/>
                  <a:pt x="298" y="79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87280" y="3392640"/>
            <a:ext cx="2376720" cy="900000"/>
          </a:xfrm>
          <a:custGeom>
            <a:avLst/>
            <a:gdLst/>
            <a:ahLst/>
            <a:rect l="l" t="t" r="r" b="b"/>
            <a:pathLst>
              <a:path w="953" h="477">
                <a:moveTo>
                  <a:pt x="953" y="477"/>
                </a:moveTo>
                <a:cubicBezTo>
                  <a:pt x="896" y="306"/>
                  <a:pt x="840" y="136"/>
                  <a:pt x="681" y="68"/>
                </a:cubicBezTo>
                <a:cubicBezTo>
                  <a:pt x="522" y="0"/>
                  <a:pt x="261" y="34"/>
                  <a:pt x="0" y="6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258920" y="1412640"/>
            <a:ext cx="2665440" cy="1655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4360" y="1341360"/>
            <a:ext cx="3166920" cy="1582920"/>
          </a:xfrm>
          <a:prstGeom prst="cloudCallout">
            <a:avLst>
              <a:gd name="adj1" fmla="val -22282"/>
              <a:gd name="adj2" fmla="val 40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de numerator and denominator by a common factor of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258920" y="1413000"/>
                <a:ext cx="2160720" cy="12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÷</m:t>
                        </m:r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÷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186080" y="820800"/>
                <a:ext cx="3906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501480" y="3014640"/>
                <a:ext cx="5191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3780000" y="5661000"/>
            <a:ext cx="156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88080" y="3233880"/>
            <a:ext cx="9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0" y="-27000"/>
            <a:ext cx="31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ver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630760" y="449280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384960" y="491508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354720" y="44877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26040" y="4495680"/>
            <a:ext cx="50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076720" y="3789360"/>
            <a:ext cx="2519640" cy="194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43280" y="4076640"/>
            <a:ext cx="3311640" cy="1656000"/>
          </a:xfrm>
          <a:prstGeom prst="cloudCallout">
            <a:avLst>
              <a:gd name="adj1" fmla="val -20995"/>
              <a:gd name="adj2" fmla="val 394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de 40 by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decimal point 2 places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0.00186 L -0.01615 -0.09375 L -0.07031 -0.09028 L -0.08646 0.00162 E">
                                      <p:cBhvr>
                                        <p:cTn id="296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3T07:21:39Z</dcterms:created>
  <dc:creator>Graeme Henchel</dc:creator>
  <dc:description/>
  <dc:language>en-US</dc:language>
  <cp:lastModifiedBy>AdamsD</cp:lastModifiedBy>
  <dcterms:modified xsi:type="dcterms:W3CDTF">2011-06-06T06:23:16Z</dcterms:modified>
  <cp:revision>4</cp:revision>
  <dc:subject/>
  <dc:title>Fraction Decimal Percentage conversions</dc:title>
</cp:coreProperties>
</file>